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Rectangle 7"/>
          <p:cNvSpPr/>
          <p:nvPr/>
        </p:nvSpPr>
        <p:spPr>
          <a:xfrm>
            <a:off x="1104480" y="1718280"/>
            <a:ext cx="6939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Segoe Script"/>
              </a:rPr>
              <a:t>STIP 201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Segoe Script"/>
              </a:rPr>
              <a:t>Roll a Responsabilitéi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Segoe Script"/>
              </a:rPr>
              <a:t> </a:t>
            </a:r>
            <a:r>
              <a:rPr b="1" lang="fr-FR" sz="4800" spc="-1" strike="noStrike">
                <a:solidFill>
                  <a:srgbClr val="000000"/>
                </a:solidFill>
                <a:latin typeface="Segoe Script"/>
              </a:rPr>
              <a:t>vum ATC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179280" y="2852640"/>
            <a:ext cx="878544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Vis a vis vum CaraPio an den Elt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Vis a vis vun der Cheféquipe an dem Grup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Vis a vis vum Verb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Vis a vis vun sech sel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179280" y="1268280"/>
            <a:ext cx="864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395280" y="1484280"/>
            <a:ext cx="864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Segoe Script"/>
              </a:rPr>
              <a:t>Resposabilite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196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Segoe Script"/>
              </a:rPr>
              <a:t>Methode</a:t>
            </a:r>
            <a:r>
              <a:rPr b="0" lang="de-DE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CaraPio Methode ass esou opgebaut dass de CaraPio folgend Kompetenzen erléieren sol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ege Grenze kenneléieren (et kann ee méi maache wéi ee mengt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elbststännegt Denken an Handel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erantwortungsgefill fir sech, déi aner, an d’Ëmwel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ositivt Denken an Handel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95280" y="292392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Meth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Secherhe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éparatioun Sp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Matérial / Ori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Hi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Coédukatio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539640" y="90792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de-DE" sz="4000" spc="-1" strike="noStrike">
                <a:solidFill>
                  <a:srgbClr val="000000"/>
                </a:solidFill>
                <a:latin typeface="Segoe Script"/>
              </a:rPr>
              <a:t>Reckbleck vun dennen enzelnen Sessioun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/>
          </p:nvPr>
        </p:nvSpPr>
        <p:spPr>
          <a:xfrm>
            <a:off x="468360" y="2349000"/>
            <a:ext cx="8229600" cy="24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Segoe Script"/>
              </a:rPr>
              <a:t>???? </a:t>
            </a:r>
            <a:r>
              <a:rPr b="1" i="1" lang="de-DE" sz="3200" spc="-1" strike="noStrike">
                <a:solidFill>
                  <a:srgbClr val="000000"/>
                </a:solidFill>
                <a:latin typeface="Segoe Script"/>
              </a:rPr>
              <a:t>Fro 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egoe Scrip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Waat ennerscheed d‘LGS vun anneren Verainer 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Segoe Script"/>
              </a:rPr>
              <a:t>Aus den LGS Statute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ducativ Ausrichtung (art. 1.3)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Erzeierreschem Zil no de Grondsätz vun de Guiden a Scouten, basiérend op den Iddien an der Methode vum Baden Powell.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Fähegkeeten, Haltungen an Verhalensweisen entweckelen déi dem Carapio am weideren Liéwen nëtzlech s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ieler Virbildfunktiou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964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LU" sz="5400" spc="-1" strike="noStrike">
                <a:solidFill>
                  <a:srgbClr val="ff3300"/>
                </a:solidFill>
                <a:latin typeface="Segoe Script"/>
              </a:rPr>
              <a:t>1</a:t>
            </a:r>
            <a:r>
              <a:rPr b="0" lang="de-LU" sz="5400" spc="-1" strike="noStrike">
                <a:solidFill>
                  <a:srgbClr val="000000"/>
                </a:solidFill>
                <a:latin typeface="Segoe Script"/>
              </a:rPr>
              <a:t>,</a:t>
            </a:r>
            <a:r>
              <a:rPr b="0" lang="de-LU" sz="5400" spc="-1" strike="noStrike">
                <a:solidFill>
                  <a:srgbClr val="33cc33"/>
                </a:solidFill>
                <a:latin typeface="Segoe Script"/>
              </a:rPr>
              <a:t>2</a:t>
            </a:r>
            <a:r>
              <a:rPr b="0" lang="de-LU" sz="5400" spc="-1" strike="noStrike">
                <a:solidFill>
                  <a:srgbClr val="000000"/>
                </a:solidFill>
                <a:latin typeface="Segoe Script"/>
              </a:rPr>
              <a:t>,</a:t>
            </a:r>
            <a:r>
              <a:rPr b="0" lang="de-LU" sz="5400" spc="-1" strike="noStrike">
                <a:solidFill>
                  <a:srgbClr val="3333cc"/>
                </a:solidFill>
                <a:latin typeface="Segoe Script"/>
              </a:rPr>
              <a:t>3</a:t>
            </a:r>
            <a:r>
              <a:rPr b="0" lang="de-LU" sz="5400" spc="-1" strike="noStrike">
                <a:solidFill>
                  <a:srgbClr val="000000"/>
                </a:solidFill>
                <a:latin typeface="Segoe Script"/>
              </a:rPr>
              <a:t> oder </a:t>
            </a:r>
            <a:r>
              <a:rPr b="0" lang="de-LU" sz="5400" spc="-1" strike="noStrike">
                <a:solidFill>
                  <a:srgbClr val="cc9900"/>
                </a:solidFill>
                <a:latin typeface="Segoe Script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68360" y="2708280"/>
            <a:ext cx="8229600" cy="29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LU" sz="3600" spc="-1" strike="noStrike">
                <a:solidFill>
                  <a:srgbClr val="000000"/>
                </a:solidFill>
                <a:latin typeface="Segoe Script"/>
              </a:rPr>
              <a:t>Ob ihr wirklich richtig steht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LU" sz="3600" spc="-1" strike="noStrike">
                <a:solidFill>
                  <a:srgbClr val="000000"/>
                </a:solidFill>
                <a:latin typeface="Segoe Script"/>
              </a:rPr>
              <a:t>seht ihr wenn das Licht angeh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126792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ir lossen op enger Montée owes am Bësch Knupperten lass. Wiem soe mir Bescheed 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79280" y="2781000"/>
            <a:ext cx="878544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ng Demande beim Ministère de l'Intérieur et de la Grande Rég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i de Nopperen, déi direkt nierft dem Bësch wunn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engem, de Knuppert ass sou kleng, daat geet schon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engem, well ech hun 18 Joer an daat därf 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7740720" y="6093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b-LU" sz="16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179280" y="1268280"/>
            <a:ext cx="864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Während engem CaraPio Schaff-Weekend décidéieren mer fir Owes spontan op e 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al ze goen. 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Wien mussen mer informéieren 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179280" y="3500280"/>
            <a:ext cx="8785440" cy="29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’Elter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een, ech als erwussene Chef sin jo dobä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e Gruppeche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een, et kritt keen eppes 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7740720" y="6093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b-LU" sz="16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4"/>
          <p:cNvSpPr/>
          <p:nvPr/>
        </p:nvSpPr>
        <p:spPr>
          <a:xfrm>
            <a:off x="179280" y="1268280"/>
            <a:ext cx="864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ng Aktivitéit op engem Weekend fällt aus, de Weekend wier also éischter eriwer. 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Waat maache mer 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179280" y="3284640"/>
            <a:ext cx="8785440" cy="33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 Weekend ass eriwer, mee mir soen dem Gruppechef besche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r liweren d’CaraPio doheem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r machen eng alternativ Aktivitéit amplat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r soen den Elteren Bescheed am de Weekend ass dann 2 Stonnen eischter erriw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7740720" y="6093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b-LU" sz="16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179280" y="1268280"/>
            <a:ext cx="864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ng Entreprise leeft net mei gudd, d’CaraPio wëllen net méi weider schaffen.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Waat machen mer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179280" y="2781360"/>
            <a:ext cx="8785440" cy="33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r sichen direkt eng nei Entrepr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r lossen et sou lafen wei et 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r motiviéren d’Carapio a paaken eng weider Hand mat 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r machen e Bilan an schléissen d’Entreprise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7740720" y="6093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b-LU" sz="16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179280" y="1268280"/>
            <a:ext cx="86407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o engem Nuetsrallye ass et spéit (et gët schon erem hell). Mir schloofen spontan am Home. Watt maachen mer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108000" y="3213000"/>
            <a:ext cx="8785080" cy="33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ir rufen den Elteren un an soen Besch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ir ruffen den Elteren net un, aus respekt well se schloff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ir Soen dem Gruppechef bescheed (per SM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ir ruffen dem Gruppechef un hién soll daat mat den Elteren an d’Rei maach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7740720" y="6093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b-LU" sz="1600" spc="-1" strike="noStrike">
                <a:solidFill>
                  <a:srgbClr val="000000"/>
                </a:solidFill>
                <a:latin typeface="Times New Roman"/>
              </a:rPr>
              <a:t>-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5T19:28:00Z</dcterms:created>
  <dc:creator>-</dc:creator>
  <dc:description/>
  <dc:language>en-US</dc:language>
  <cp:lastModifiedBy>user</cp:lastModifiedBy>
  <dcterms:modified xsi:type="dcterms:W3CDTF">2013-11-01T20:16:37Z</dcterms:modified>
  <cp:revision>16</cp:revision>
  <dc:subject/>
  <dc:title>Folie 1</dc:title>
</cp:coreProperties>
</file>