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539640" y="22050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édukatiou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16000" y="19872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9) Därf dénger Meenung no, e Chef oder eng Cheftaine mat engem CaraPio ubändel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19872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0) Soll dénger Meenung no, eng Cheféquipe aus Jongen a Meedercher besto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6000" y="1773360"/>
            <a:ext cx="66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1) Huet e Chef oder eng Cheftaine, deen oder déi sech offen zu sénger Homosexualitéit bekennt, e schlechten Afloss ob séng CaraPi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00" y="1774800"/>
            <a:ext cx="66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2) Stéiert dénger Meenung no eng Relation an der Cheféquipe (Chef-Këppelchen), den Ooflaaf vun enger Aktivité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19872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3) Wouru läit et dénger Meenung no, dat an den CaraPio d´Meedercher (Caravellen a Cheftainen) an der Mannerheet s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2920" y="1342800"/>
            <a:ext cx="66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finitioun vum Verb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nner Coedukatioun versti mir di gemeinschaftlech Erzéiung vu Meedercher a Jongen a gemëschte Gruppen an der Optik vun engem partnerschaftlechen Zesummeliewen a –schaffen vu Mann a Fra. Mir sollen der Verschiddenheet vu Jongen a Meedercher Rechnung droen, drop agoen an hinne bei hirer spezifescher Entwécklung hëllefen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1116000" y="1773360"/>
            <a:ext cx="66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) Sollen d´CaraPio dénger Meenung no grondsätzlech a getrennten Zel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( Dortoiren ) schlofen (ob WEender an um Camp) ?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116000" y="1773360"/>
            <a:ext cx="66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2) Soll ee bei der Chargeverdeelung bei enger Entreprise no typesche Rolle verdeelen? (Z.B. Meedercher kachen a Jonge machen Holz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19872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) Get et dénger Meenung no en Ennerscheed tescht Mixitéit a Coédukatiou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219996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4) As et emmer richteg, Entscheedungen duerch majoritär Ofstemmung ze treff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9872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) Soll een och eemol getrennten Aktivitéite vu Jongen a vu Meedercher maach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6000" y="219996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6) Kann ee mat Jongen a mat Meedercher déi selwescht Aktivitéite maach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19872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) Reagéiers du bei CaraPio-Këppelcher, déi sech bei den Aktivitéiten ofsonneren an dauernd uneneenhänk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19872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) Gehéieren Gummien dénger Meenung no an d´Eischthëllefskëscht fir mat ob e WE oder e Camp ?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507560"/>
            <a:ext cx="100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44773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1:16:11Z</dcterms:created>
  <dc:creator>C.I.E.</dc:creator>
  <dc:description/>
  <dc:language>en-US</dc:language>
  <cp:lastModifiedBy>Claude</cp:lastModifiedBy>
  <dcterms:modified xsi:type="dcterms:W3CDTF">2009-11-01T10:36:51Z</dcterms:modified>
  <cp:revision>15</cp:revision>
  <dc:subject/>
  <dc:title>Diapositive 1</dc:title>
</cp:coreProperties>
</file>