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86508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773160" y="937080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D88C-8A8D-42E9-A645-BAE531007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608F-A733-41BB-8B53-4BA9C96EA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863640" y="73836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890640" y="4686480"/>
            <a:ext cx="48816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3CE8-D4A6-44D4-BB8D-22831C766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863640" y="73836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90640" y="4686480"/>
            <a:ext cx="48816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9640" y="2205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éducatiou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3" descr=""/>
          <p:cNvPicPr/>
          <p:nvPr/>
        </p:nvPicPr>
        <p:blipFill>
          <a:blip r:embed="rId1"/>
          <a:stretch/>
        </p:blipFill>
        <p:spPr>
          <a:xfrm>
            <a:off x="176040" y="1109520"/>
            <a:ext cx="8791920" cy="52610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-54000" y="14320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finitioun vum Verb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2331720"/>
            <a:ext cx="82296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Ënner Coéducatioun versti mir di gemeinschaftlech Erzéiung vu Meedercher a Jongen a gemëschte Gruppen an der Optik vun engem partnerschaftlechen Zesummeliewen a schaffe vu Mann a Fra. Mir sollen der Verschiddenheet vu Jongen a Meedercher Rechnung droen, drop agoen an hinne bei hirer spezifescher Entwécklung hëllefen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ll vum Che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Bei Entscheed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Bei der Chargeverdee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Bei der Auswiel vun den Aktivité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Bei der Ausféierung vun den Aktivité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Chefeki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Coéducatioun op d’Tapéit bré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58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Bei Entscheedunge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2205000"/>
            <a:ext cx="749772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idderengem seng Meenung ass wichte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idderee kritt d’Wu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norité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trennt diskuté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versitéit vun Aktivité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Bei der Chargeverdeelung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206028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 nom Geschlec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éinlechen Intre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̈hegkee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idderee soll déi selwecht Chancen h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2920" y="19886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sch Rolleverdeelunge vermei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ulement vun Char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ffen sinn Virbiller a sollen sech och bedeele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Bei der Wiel vun den Aktivitéiten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989000"/>
            <a:ext cx="7786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dividuelle Fähegkeeten up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schidde Varian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ch emol getrennt Aktivité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rklären wisou eng Aktivitéit gewielt gou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mëschten Ek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 Idee opschreiw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Bei der Ausféierung vun den Aktivitéiten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00000" y="2276640"/>
            <a:ext cx="7786800" cy="39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äichméisseg Verdeelung vun den Aarbechten un Jongen a Meeder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mëschten Ekippen, heiansdo och getren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’Chefekipp geet ëmmer mam gudde Beispill 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Ënnerstetz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611280" y="292428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t de Jhempi kann, kann d’Catherine evt. Och an emgedréint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Chefekipp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mëscht Chefekipp erwënscht a sënnv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gemëschte Campinger ass dëst obligatoresch (Reglement N° 13, Art. 5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ond: verständnesvoll a vertrauensvoll Begleedung an Ënnerstëtz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eren Bez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éihungen ënnerteneen sinn priv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’Chef ginn mam gudde Beispill 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D’Coéducatioun op d’Tapéit bréngen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34900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wwert Relatiounen tëscht Meedecher a Jongen soll geschwat an nodeduecht gi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matiséieren &amp; sensibilisé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enzelgespréicher oder Diskussiounen, Rollespiller an aner Ausdrocksmët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filler, Frëndschaft, Léift a Sexualitéit si keen Ta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1:16:11Z</dcterms:created>
  <dc:creator>C.I.E.</dc:creator>
  <dc:description/>
  <dc:language>en-US</dc:language>
  <cp:lastModifiedBy>Tessy Bemtgen</cp:lastModifiedBy>
  <dcterms:modified xsi:type="dcterms:W3CDTF">2017-11-07T10:41:05Z</dcterms:modified>
  <cp:revision>32</cp:revision>
  <dc:subject/>
  <dc:title>Diapositive 1</dc:title>
</cp:coreProperties>
</file>