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C48A-93CF-4654-BF96-C51776614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D9B-4223-47BB-9394-CD8F7A701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863640" y="73836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90640" y="4686480"/>
            <a:ext cx="4881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80F-A85C-40E4-9E2A-A7735C2D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863640" y="73836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90640" y="4686480"/>
            <a:ext cx="4881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9640" y="22050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éducatiou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ight Arrow 4"/>
          <p:cNvSpPr/>
          <p:nvPr/>
        </p:nvSpPr>
        <p:spPr>
          <a:xfrm rot="3037800">
            <a:off x="1397880" y="1556280"/>
            <a:ext cx="3352680" cy="1573200"/>
          </a:xfrm>
          <a:prstGeom prst="rightArrow">
            <a:avLst>
              <a:gd name="adj1" fmla="val 50000"/>
              <a:gd name="adj2" fmla="val 49973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2364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Gläichwärtegkeet M&amp;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eft Arrow 5"/>
          <p:cNvSpPr/>
          <p:nvPr/>
        </p:nvSpPr>
        <p:spPr>
          <a:xfrm rot="19013400">
            <a:off x="4307040" y="1617840"/>
            <a:ext cx="3989160" cy="164448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660066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oleranz, Akzeptanz, Aut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eft Arrow 6"/>
          <p:cNvSpPr/>
          <p:nvPr/>
        </p:nvSpPr>
        <p:spPr>
          <a:xfrm rot="21157800">
            <a:off x="5295960" y="3456000"/>
            <a:ext cx="2746440" cy="13622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exualité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eft Arrow 7"/>
          <p:cNvSpPr/>
          <p:nvPr/>
        </p:nvSpPr>
        <p:spPr>
          <a:xfrm rot="2190000">
            <a:off x="4457520" y="4820760"/>
            <a:ext cx="3047760" cy="180036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a5a5e9"/>
          </a:solidFill>
          <a:ln w="9360">
            <a:solidFill>
              <a:srgbClr val="2828b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ozial Kompet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ight Arrow 8"/>
          <p:cNvSpPr/>
          <p:nvPr/>
        </p:nvSpPr>
        <p:spPr>
          <a:xfrm rot="19386000">
            <a:off x="1049400" y="4776480"/>
            <a:ext cx="2901960" cy="1709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6600"/>
          </a:soli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Bezéi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684360" y="3357720"/>
            <a:ext cx="2565360" cy="166356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08000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Gef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2916360" y="3429000"/>
            <a:ext cx="251928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i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finitioun vum Ver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2331720"/>
            <a:ext cx="8229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Ënner Coéducatioun versti mir di gemeinschaftlech Erzéiung vu Meedercher a Jongen a gemëschte Gruppen an der Optik vun engem partnerschaftlechen Zesummeliewen a schaffe vu Mann a Fra. Mir sollen der Verschiddenheet vu Jongen a Meedercher Rechnung droen, drop agoen an hinne bei hirer spezifescher Entwécklung hëllefen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ll vum Ch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23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Bei Entscheed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Bei der Chargeverdee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Bei der Auswiel vun den Aktivité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Bei der Ausféierung vun den Aktivité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Chefeki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éducatioun op d’Tapéit bré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Bei Entscheed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dderengem seng Meenung ass wichte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dderee kritt d’Wu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orité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rennt diskuté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Bei der Chargeverdeel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 nom Geschlec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éinlechen Intr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̈hegkee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dderee soll déi selwecht Chancen h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ch Rolleverdeelunge vermei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Bei der Wiel vun den Aktivité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elle Fähegkeeten up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chidde Varia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ch emol getrennt Aktivité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Bei der Ausféierung vun den Aktivité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äichméisseg Verdeelung vun den Aarbechten un Jongen a Meeder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’Chefekipp geet ëmmer mam gudde Beispill 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mësch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fekip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wënscht a sënnv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gemëschte Campinger ass dëst obligatoresch (Reglement N° 13, Art. 5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nd: verständnesvoll a vertrauensvoll Begleedung an Ënnerstë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D’Coéducatioun op d’Tapéit brén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wwert Relatiounen tëscht Meedecher a Jongen soll geschwat an nodeduecht g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enzelgespréicher oder Diskussiounen, Rollespiller an aner Ausdrocksmët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filler, Frëndschaft, Léift a Sexualitéit si keen Ta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1:16:11Z</dcterms:created>
  <dc:creator>C.I.E.</dc:creator>
  <dc:description/>
  <dc:language>en-US</dc:language>
  <cp:lastModifiedBy>Liz</cp:lastModifiedBy>
  <dcterms:modified xsi:type="dcterms:W3CDTF">2016-10-24T21:19:49Z</dcterms:modified>
  <cp:revision>25</cp:revision>
  <dc:subject/>
  <dc:title>Diapositive 1</dc:title>
</cp:coreProperties>
</file>